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60866"/>
        <c:axId val="53875030"/>
      </c:barChart>
      <c:catAx>
        <c:axId val="67960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75030"/>
        <c:crosses val="autoZero"/>
        <c:auto val="1"/>
        <c:lblAlgn val="ctr"/>
        <c:lblOffset val="100"/>
        <c:noMultiLvlLbl val="0"/>
      </c:catAx>
      <c:valAx>
        <c:axId val="53875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60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BFCB-B736-4230-9589-90D170C6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FAB1-085E-4949-A4B5-A5CD1B3B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583D-A3A9-42B8-8267-DC605E50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AD96-9246-4379-8C60-AD6C8692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EA0-16F0-4483-9BA2-6E8EFC38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9BF-A316-47F3-992A-EFB6B342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F27-05D0-41CD-9007-971F05C4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1F9-92A5-44B0-8A07-1C3D3D42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C89-C422-4C07-BE2F-B2182BA5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DBA7-FC70-495E-9B02-1565EC88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AA1-08F1-470B-A8C5-73EF04D4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081-CE63-4DCD-9E8F-5B40432B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02A8F-2A68-4039-9CF8-865AB2C103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