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54207"/>
        <c:axId val="32298866"/>
      </c:barChart>
      <c:catAx>
        <c:axId val="377542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98866"/>
        <c:crosses val="autoZero"/>
        <c:auto val="1"/>
        <c:lblAlgn val="ctr"/>
        <c:lblOffset val="100"/>
        <c:noMultiLvlLbl val="0"/>
      </c:catAx>
      <c:valAx>
        <c:axId val="32298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542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188-54F0-46B6-8E96-B3D6AAC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75C-6B22-42F5-AF3F-75B47AD3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9BC-6489-41DD-A0DF-62C9848B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ACE-F314-401E-B16B-E4A205C0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50F-EABF-4768-8DB6-7AF75DD1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D97-3A49-4860-B17F-32431482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A56-7FA3-4834-92E7-C4C87243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2923-EE7B-4353-ABD9-CC7B4B52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7CE-E38F-478D-86F7-A846CC7F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912-6AC5-4E29-96DD-764ECA35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13E-F6F4-4D04-82D5-B334B950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35F-CC8C-4B4D-B15E-C5C60B37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4C3F9-BCF2-4226-9AA6-EDFB9FA75B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