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725554"/>
        <c:axId val="4231898"/>
      </c:barChart>
      <c:catAx>
        <c:axId val="777255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31898"/>
        <c:crosses val="autoZero"/>
        <c:auto val="1"/>
        <c:lblAlgn val="ctr"/>
        <c:lblOffset val="100"/>
        <c:noMultiLvlLbl val="0"/>
      </c:catAx>
      <c:valAx>
        <c:axId val="42318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7255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06A9B-B213-48A0-85CE-D58296D9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9088-EB56-4668-91D2-4666EEBCF2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EB4C0-F230-4798-9216-CD52F943D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9B8B-2FEA-4CEB-93C9-8BE4AE534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1EC2E-007B-4A0B-B413-FBB1EDD7F3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03A8B-0759-4D8C-855E-A96F0005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D4472-8F87-4C7D-95B1-D23E9653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BB86C-CA02-47C0-87DB-2448B7176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4CC1-1877-451D-8579-98652050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D5C-39D5-4279-9E7B-DFA8CE70E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413C-8911-47C1-A80E-FF798E6AC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1811-FF57-4651-B0A5-2FDD44E03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554C31-E777-437D-929E-BE2B8DD047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