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69060"/>
        <c:axId val="81151209"/>
      </c:barChart>
      <c:catAx>
        <c:axId val="79469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51209"/>
        <c:crosses val="autoZero"/>
        <c:auto val="1"/>
        <c:lblAlgn val="ctr"/>
        <c:lblOffset val="100"/>
        <c:noMultiLvlLbl val="0"/>
      </c:catAx>
      <c:valAx>
        <c:axId val="81151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69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E4A-9E97-418D-841F-F15079DF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166-0FBA-4176-A17A-0714FC68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A7B-EC41-4A1C-A34A-288802A5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340-A270-40AA-8E1F-8667E46F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2F2-178C-4C4B-80E7-5B5B00BC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D6D-19BD-4614-A25E-B226C281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472-1528-47CC-B1B3-C9EDD42D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3C2-2D78-41DD-98AF-D69F8AA2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29F-7831-4640-B740-FEF6E79A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4EB-E073-464C-AC24-229C199D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9BC-10B0-43E7-97C3-C8DCF41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03A-AA26-48C9-83FE-DF7CDC13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60B17-CE12-4FC4-BEF9-14F247D7A4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