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45978"/>
        <c:axId val="97866541"/>
      </c:barChart>
      <c:catAx>
        <c:axId val="96445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66541"/>
        <c:crosses val="autoZero"/>
        <c:auto val="1"/>
        <c:lblAlgn val="ctr"/>
        <c:lblOffset val="100"/>
        <c:noMultiLvlLbl val="0"/>
      </c:catAx>
      <c:valAx>
        <c:axId val="97866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45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531-C089-46CA-816E-4B32ABA0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E8A-DFFA-45D7-BEF4-890E36A7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2C8-B48D-44D3-BE9C-0671DB19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AF9-3C29-4AF1-A042-B0349950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6AA-30B5-4339-B285-F605BB0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26C-7181-4F39-85AB-77B9990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F04-95F8-417E-85F0-F331530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17A-916F-47B8-9FB9-6248CB2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581-0452-4C7A-90B9-3AE7757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E60-C847-4673-A842-A1D4DDF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2E1-3D56-4744-94A4-D6152E4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B59-7FF9-4C21-800E-2F92815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D40AA-1D73-4249-B1C4-FBCD17EF8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